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E50E-C826-43EA-99D5-2548F9D6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8BFC-06C8-4D75-985A-20DA3E8E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3E0F-38D3-409F-8A83-B3D7DF431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AF6B-D102-45B6-96B6-CC685A65F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54D2-5898-4F9D-AED6-1D515347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6C9B-4863-47AC-B669-3211FAAB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921D-80F9-4352-BD6C-B527B246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7B7F-F30C-4B4B-BD3F-3104B4AD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8A00-6624-4CC5-A3A7-A1E82854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739C-2653-4A0A-95B1-A37BDF89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CE57-6CC6-4642-90D0-0EC4F5CD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A0F9-63C4-4330-BED7-DFC4BD7C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1119A-B01D-4CD9-9633-2FB73758A4F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 LEÃO E O RATIN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2920" y="1768320"/>
            <a:ext cx="9070920" cy="4989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060720" y="2700360"/>
            <a:ext cx="360036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000" y="16700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Um leão, cansado de tan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açar, dormia espichado debaix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a sombra de uma árvo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Nisso, vieram uns ratinh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assear em c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le, e ele acordou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ratinhos_dancando" descr=""/>
          <p:cNvPicPr/>
          <p:nvPr/>
        </p:nvPicPr>
        <p:blipFill>
          <a:blip r:embed=""/>
          <a:stretch/>
        </p:blipFill>
        <p:spPr>
          <a:xfrm>
            <a:off x="5580000" y="4859280"/>
            <a:ext cx="450072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547280"/>
            <a:ext cx="9070920" cy="543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ssustados, todos consegui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fugir, menos um, que o le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rendeu debaixo da pa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Mas tanto o ratinho pediu 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implorou que o leão desisti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e esmagá-lo, deixando 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fosse embor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199280" y="5040360"/>
            <a:ext cx="270036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191960"/>
            <a:ext cx="9070920" cy="61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lgum tempo depois, 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leão ficou preso na rede de 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caçadores. Não conseguindo 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soltar, fazia a floresta intei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tremer com seus urros 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raiv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í apareceu o ratinho, qu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com seus dentes afiado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roeu as cordas e soltou 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leã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300720" y="3780000"/>
            <a:ext cx="3780000" cy="3504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0:41:21Z</dcterms:created>
  <dc:creator>Sala Professores</dc:creator>
  <dc:description/>
  <dc:language>en-US</dc:language>
  <cp:lastModifiedBy>Sala Professores</cp:lastModifiedBy>
  <dcterms:modified xsi:type="dcterms:W3CDTF">2010-12-14T11:47:22Z</dcterms:modified>
  <cp:revision>2</cp:revision>
  <dc:subject/>
  <dc:title/>
</cp:coreProperties>
</file>